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2f30"/>
                </a:solidFill>
                <a:latin typeface="Cochin"/>
              </a:rPr>
              <a:t>Click to edit the title text format</a:t>
            </a:r>
            <a:endParaRPr b="0" lang="en-US" sz="3600" spc="-1" strike="noStrike">
              <a:solidFill>
                <a:srgbClr val="2e2f30"/>
              </a:solidFill>
              <a:latin typeface="Coch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f30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  <a:p>
            <a:pPr lvl="1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f30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  <a:p>
            <a:pPr lvl="2" algn="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f30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  <a:p>
            <a:pPr lvl="3" algn="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f30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  <a:p>
            <a:pPr lvl="4" algn="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f30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  <a:p>
            <a:pPr lvl="5">
              <a:spcBef>
                <a:spcPts val="601"/>
              </a:spcBef>
              <a:buClr>
                <a:srgbClr val="2e2f30"/>
              </a:buClr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f30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  <a:p>
            <a:pPr lvl="6">
              <a:spcBef>
                <a:spcPts val="601"/>
              </a:spcBef>
              <a:buClr>
                <a:srgbClr val="2e2f30"/>
              </a:buClr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f30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2e2f3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8240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1" marL="1022760" indent="-48204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2" marL="136080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3" marL="169848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4" marL="203652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5" marL="2036520" indent="-48240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6" marL="2036520" indent="-48240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48240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1" marL="1022760" indent="-48204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2" marL="136080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3" marL="169848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4" marL="2036520" indent="-4824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5" marL="2036520" indent="-48240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6" marL="2036520" indent="-48240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797600" y="2768400"/>
            <a:ext cx="4190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12560" indent="-41256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1" marL="874800" indent="-4122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2" marL="1163880" indent="-41256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3" marL="1452600" indent="-41256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4" marL="1741680" indent="-41256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5" marL="1741680" indent="-41256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  <a:p>
            <a:pPr lvl="6" marL="1741680" indent="-41256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3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546120">
              <a:spcBef>
                <a:spcPts val="32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800" spc="-1" strike="noStrike">
              <a:solidFill>
                <a:srgbClr val="3f3f3f"/>
              </a:solidFill>
              <a:latin typeface="Cochin"/>
            </a:endParaRPr>
          </a:p>
          <a:p>
            <a:pPr lvl="1" marL="1157400" indent="-545760">
              <a:spcBef>
                <a:spcPts val="32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800" spc="-1" strike="noStrike">
              <a:solidFill>
                <a:srgbClr val="3f3f3f"/>
              </a:solidFill>
              <a:latin typeface="Cochin"/>
            </a:endParaRPr>
          </a:p>
          <a:p>
            <a:pPr lvl="2" marL="1539720" indent="-546120">
              <a:spcBef>
                <a:spcPts val="32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800" spc="-1" strike="noStrike">
              <a:solidFill>
                <a:srgbClr val="3f3f3f"/>
              </a:solidFill>
              <a:latin typeface="Cochin"/>
            </a:endParaRPr>
          </a:p>
          <a:p>
            <a:pPr lvl="3" marL="1922040" indent="-546120">
              <a:spcBef>
                <a:spcPts val="32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800" spc="-1" strike="noStrike">
              <a:solidFill>
                <a:srgbClr val="3f3f3f"/>
              </a:solidFill>
              <a:latin typeface="Cochin"/>
            </a:endParaRPr>
          </a:p>
          <a:p>
            <a:pPr lvl="4" marL="2304360" indent="-546120">
              <a:spcBef>
                <a:spcPts val="32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800" spc="-1" strike="noStrike">
              <a:solidFill>
                <a:srgbClr val="3f3f3f"/>
              </a:solidFill>
              <a:latin typeface="Cochin"/>
            </a:endParaRPr>
          </a:p>
          <a:p>
            <a:pPr lvl="5" marL="2304360" indent="-546120">
              <a:spcBef>
                <a:spcPts val="3200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800" spc="-1" strike="noStrike">
              <a:solidFill>
                <a:srgbClr val="3f3f3f"/>
              </a:solidFill>
              <a:latin typeface="Cochin"/>
            </a:endParaRPr>
          </a:p>
          <a:p>
            <a:pPr lvl="6" marL="2304360" indent="-546120">
              <a:spcBef>
                <a:spcPts val="3200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8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15920" y="326340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105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15920" y="2031480"/>
            <a:ext cx="10972800" cy="32259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105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1015920" y="5359320"/>
            <a:ext cx="10972800" cy="147312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1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2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3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4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5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6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15920" y="7480440"/>
            <a:ext cx="10972800" cy="16509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95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7600" y="1396800"/>
            <a:ext cx="5969160" cy="37083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0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507600" y="5219640"/>
            <a:ext cx="5969160" cy="32385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50760" rIns="50760" tIns="50760" bIns="50760" anchor="t">
            <a:normAutofit fontScale="7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600" spc="-1" strike="noStrike">
              <a:solidFill>
                <a:srgbClr val="3f3f3f"/>
              </a:solidFill>
              <a:latin typeface="Cochin"/>
            </a:endParaRPr>
          </a:p>
          <a:p>
            <a:pPr lvl="1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600" spc="-1" strike="noStrike">
              <a:solidFill>
                <a:srgbClr val="3f3f3f"/>
              </a:solidFill>
              <a:latin typeface="Cochin"/>
            </a:endParaRPr>
          </a:p>
          <a:p>
            <a:pPr lvl="2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600" spc="-1" strike="noStrike">
              <a:solidFill>
                <a:srgbClr val="3f3f3f"/>
              </a:solidFill>
              <a:latin typeface="Cochin"/>
            </a:endParaRPr>
          </a:p>
          <a:p>
            <a:pPr lvl="3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600" spc="-1" strike="noStrike">
              <a:solidFill>
                <a:srgbClr val="3f3f3f"/>
              </a:solidFill>
              <a:latin typeface="Cochin"/>
            </a:endParaRPr>
          </a:p>
          <a:p>
            <a:pPr lvl="4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600" spc="-1" strike="noStrike">
              <a:solidFill>
                <a:srgbClr val="3f3f3f"/>
              </a:solidFill>
              <a:latin typeface="Cochin"/>
            </a:endParaRPr>
          </a:p>
          <a:p>
            <a:pPr lvl="5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600" spc="-1" strike="noStrike">
              <a:solidFill>
                <a:srgbClr val="3f3f3f"/>
              </a:solidFill>
              <a:latin typeface="Cochin"/>
            </a:endParaRPr>
          </a:p>
          <a:p>
            <a:pPr lvl="6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6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1015920" y="1270080"/>
            <a:ext cx="10972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52240" indent="-552240">
              <a:spcBef>
                <a:spcPts val="47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1" marL="1170720" indent="-551880">
              <a:spcBef>
                <a:spcPts val="47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2" marL="1557720" indent="-552240">
              <a:spcBef>
                <a:spcPts val="47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3" marL="1944360" indent="-552240">
              <a:spcBef>
                <a:spcPts val="47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4" marL="2331360" indent="-552240">
              <a:spcBef>
                <a:spcPts val="47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5" marL="2331360" indent="-552240">
              <a:spcBef>
                <a:spcPts val="47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  <a:p>
            <a:pPr lvl="6" marL="2331360" indent="-552240">
              <a:spcBef>
                <a:spcPts val="47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42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15920" y="545760"/>
            <a:ext cx="10972800" cy="185436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1015920" y="2768400"/>
            <a:ext cx="10972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571320" indent="-571320">
              <a:spcBef>
                <a:spcPts val="33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400" spc="-1" strike="noStrike">
              <a:solidFill>
                <a:srgbClr val="3f3f3f"/>
              </a:solidFill>
              <a:latin typeface="Cochin"/>
            </a:endParaRPr>
          </a:p>
          <a:p>
            <a:pPr lvl="1" marL="1211400" indent="-570960">
              <a:spcBef>
                <a:spcPts val="33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400" spc="-1" strike="noStrike">
              <a:solidFill>
                <a:srgbClr val="3f3f3f"/>
              </a:solidFill>
              <a:latin typeface="Cochin"/>
            </a:endParaRPr>
          </a:p>
          <a:p>
            <a:pPr lvl="2" marL="1611360" indent="-571320">
              <a:spcBef>
                <a:spcPts val="33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400" spc="-1" strike="noStrike">
              <a:solidFill>
                <a:srgbClr val="3f3f3f"/>
              </a:solidFill>
              <a:latin typeface="Cochin"/>
            </a:endParaRPr>
          </a:p>
          <a:p>
            <a:pPr lvl="3" marL="2011680" indent="-571320">
              <a:spcBef>
                <a:spcPts val="33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400" spc="-1" strike="noStrike">
              <a:solidFill>
                <a:srgbClr val="3f3f3f"/>
              </a:solidFill>
              <a:latin typeface="Cochin"/>
            </a:endParaRPr>
          </a:p>
          <a:p>
            <a:pPr lvl="4" marL="2411640" indent="-571320">
              <a:spcBef>
                <a:spcPts val="33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400" spc="-1" strike="noStrike">
              <a:solidFill>
                <a:srgbClr val="3f3f3f"/>
              </a:solidFill>
              <a:latin typeface="Cochin"/>
            </a:endParaRPr>
          </a:p>
          <a:p>
            <a:pPr lvl="5" marL="2411640" indent="-571320">
              <a:spcBef>
                <a:spcPts val="33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400" spc="-1" strike="noStrike">
              <a:solidFill>
                <a:srgbClr val="3f3f3f"/>
              </a:solidFill>
              <a:latin typeface="Cochin"/>
            </a:endParaRPr>
          </a:p>
          <a:p>
            <a:pPr lvl="6" marL="2411640" indent="-571320">
              <a:spcBef>
                <a:spcPts val="33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4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0" y="0"/>
            <a:ext cx="11175840" cy="8610480"/>
            <a:chOff x="0" y="0"/>
            <a:chExt cx="11175840" cy="8610480"/>
          </a:xfrm>
        </p:grpSpPr>
        <p:pic>
          <p:nvPicPr>
            <p:cNvPr id="1048" name="" descr=""/>
            <p:cNvPicPr/>
            <p:nvPr/>
          </p:nvPicPr>
          <p:blipFill>
            <a:blip r:embed="rId2"/>
            <a:srcRect l="20743" t="13404" r="20743" b="13139"/>
            <a:stretch/>
          </p:blipFill>
          <p:spPr>
            <a:xfrm>
              <a:off x="203040" y="152280"/>
              <a:ext cx="10769760" cy="805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5840" cy="86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0" name="" descr=""/>
          <p:cNvPicPr/>
          <p:nvPr/>
        </p:nvPicPr>
        <p:blipFill>
          <a:blip r:embed="rId4"/>
          <a:stretch/>
        </p:blipFill>
        <p:spPr>
          <a:xfrm>
            <a:off x="3228840" y="838080"/>
            <a:ext cx="6554880" cy="8064720"/>
          </a:xfrm>
          <a:prstGeom prst="rect">
            <a:avLst/>
          </a:prstGeom>
          <a:ln w="0">
            <a:noFill/>
          </a:ln>
        </p:spPr>
      </p:pic>
      <p:pic>
        <p:nvPicPr>
          <p:cNvPr id="1051" name="histor.ppt_media/histor.mov" descr=""/>
          <p:cNvPicPr/>
          <p:nvPr/>
        </p:nvPicPr>
        <p:blipFill>
          <a:blip r:embed="rId5"/>
          <a:stretch/>
        </p:blipFill>
        <p:spPr>
          <a:xfrm>
            <a:off x="12600" y="7709040"/>
            <a:ext cx="673200" cy="67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"/>
          <p:cNvGrpSpPr/>
          <p:nvPr/>
        </p:nvGrpSpPr>
        <p:grpSpPr>
          <a:xfrm>
            <a:off x="0" y="0"/>
            <a:ext cx="11175840" cy="8610480"/>
            <a:chOff x="0" y="0"/>
            <a:chExt cx="11175840" cy="8610480"/>
          </a:xfrm>
        </p:grpSpPr>
        <p:pic>
          <p:nvPicPr>
            <p:cNvPr id="1053" name="" descr=""/>
            <p:cNvPicPr/>
            <p:nvPr/>
          </p:nvPicPr>
          <p:blipFill>
            <a:blip r:embed="rId2"/>
            <a:srcRect l="9928" t="0" r="9928" b="0"/>
            <a:stretch/>
          </p:blipFill>
          <p:spPr>
            <a:xfrm>
              <a:off x="203040" y="162000"/>
              <a:ext cx="10769760" cy="80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5840" cy="861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5" name=""/>
          <p:cNvSpPr/>
          <p:nvPr/>
        </p:nvSpPr>
        <p:spPr>
          <a:xfrm>
            <a:off x="2133720" y="495360"/>
            <a:ext cx="8991360" cy="8610480"/>
          </a:xfrm>
          <a:prstGeom prst="rect">
            <a:avLst/>
          </a:prstGeom>
          <a:solidFill>
            <a:srgbClr val="fe494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ea typeface="Verdana"/>
              </a:rPr>
              <a:t>Bill Turner</a:t>
            </a:r>
            <a:endParaRPr b="0" lang="en-US" sz="1800" spc="-1" strike="noStrike">
              <a:solidFill>
                <a:srgbClr val="2e2f30"/>
              </a:solidFill>
              <a:latin typeface="Helvetica Neue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Afrikaners create apartheid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Tormenting all others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Separate the people and hid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Afraid of their brother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Fear driving decisions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Ruining many a lif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Pouring out their derisions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Creating racial strif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A legend is born in prison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The Rainmaker has com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A bold and crafty decision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While pretending to be dumb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Tribes unite and learn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Rainmaker spreading his will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Afrikaners continue to burn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Torching the village on the hi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Englishman giving it his all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Driven by what is right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No longer feeling small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Stepping up, leading the figh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One person making change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Staying true to his heart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What can you rearrange?</a:t>
            </a:r>
            <a:br>
              <a:rPr sz="1800"/>
            </a:b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Verdana"/>
              </a:rPr>
              <a:t>Will you do your part?</a:t>
            </a:r>
            <a:endParaRPr b="0" lang="en-US" sz="1800" spc="-1" strike="noStrike">
              <a:solidFill>
                <a:srgbClr val="2e2f30"/>
              </a:solidFill>
              <a:latin typeface="Helvetica Neue Light"/>
            </a:endParaRPr>
          </a:p>
        </p:txBody>
      </p:sp>
      <p:pic>
        <p:nvPicPr>
          <p:cNvPr id="1056" name="histor.ppt_media/histor 2.mov" descr=""/>
          <p:cNvPicPr/>
          <p:nvPr/>
        </p:nvPicPr>
        <p:blipFill>
          <a:blip r:embed="rId4"/>
          <a:stretch/>
        </p:blipFill>
        <p:spPr>
          <a:xfrm>
            <a:off x="0" y="7734240"/>
            <a:ext cx="673200" cy="67320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7797960" y="1147680"/>
            <a:ext cx="2387520" cy="33800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8204040" y="4940280"/>
            <a:ext cx="1743120" cy="218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